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8422-D3A2-4CD2-A227-B5F414466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520" y="443880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60D-4A52-473E-BEE7-F2DE9F82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456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91AC-F6A3-4EAC-96F6-C97229615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036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056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52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036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056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666-4FAA-49CE-9C3F-59EE8D8D3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1B5B-3861-4ECD-8025-C582020EF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456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443880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456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4036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0056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4036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0056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FF67-6FD3-4AD1-8663-08DC0D735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2B22-F422-41CA-80F5-17ABD3376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AEFCC-42B7-4581-A241-EFF76CDC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247C1-DC23-4036-AEFF-640C3A83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4B7A0-3457-4AEE-A877-8D544BED8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5E8F-140E-4F14-9DB6-836468CA1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7D230-3CB4-4BD0-B77A-7F8321332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89D9E-859F-4CEC-9489-2C7895DB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71456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BB6EE-19CA-41B1-8488-5AD1CC898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8BD04-E293-44D1-8C61-524C99CC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80520" y="443880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4992-7E0F-4A16-9FE3-2265CCB82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71456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FB9DC-A134-48E8-BCDD-FF310743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4036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100560" y="220968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8052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4036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100560" y="4438800"/>
            <a:ext cx="2723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51E45-4EDC-4536-A4A5-90B423D6B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E6D1-2445-4FA2-AAE6-A186953F4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3B5-DF5E-46A3-95F1-97B46091B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84582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C14F-FF96-4CCB-A09F-F99895B85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C66F-0674-4F48-B8DB-CEE90D73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4560" y="443880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E993-60EF-4748-A6FE-F7519EACF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2209680"/>
            <a:ext cx="4127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520" y="4438800"/>
            <a:ext cx="8458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A754-3A5E-4E3B-8BDE-7D989ADA9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 Apri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2C6AF-B2A7-442C-96D4-4B86BDAD4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Click to edit the title text format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lick to edit the outline text format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Second Outline Level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2" marL="1143000" indent="-228600">
              <a:spcBef>
                <a:spcPts val="799"/>
              </a:spcBef>
              <a:buClr>
                <a:srgbClr val="4e009c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Third Outline Level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3" marL="1600200" indent="-228600">
              <a:spcBef>
                <a:spcPts val="799"/>
              </a:spcBef>
              <a:buClr>
                <a:srgbClr val="4e009c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Fourth Outline Level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4" marL="2057400" indent="-228600">
              <a:spcBef>
                <a:spcPts val="799"/>
              </a:spcBef>
              <a:buClr>
                <a:srgbClr val="4e009c"/>
              </a:buClr>
              <a:buSzPct val="90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Fifth Outline Level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5" marL="2057400" indent="-228600">
              <a:spcBef>
                <a:spcPts val="799"/>
              </a:spcBef>
              <a:buClr>
                <a:srgbClr val="990033"/>
              </a:buClr>
              <a:buSzPct val="90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Sixth Outline Level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6" marL="2057400" indent="-228600">
              <a:spcBef>
                <a:spcPts val="799"/>
              </a:spcBef>
              <a:buClr>
                <a:srgbClr val="990033"/>
              </a:buClr>
              <a:buSzPct val="90000"/>
              <a:buFont typeface="Trebuchet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Seventh Outline Level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  <p:pic>
        <p:nvPicPr>
          <p:cNvPr id="43" name="Picture 4" descr="cddc bv"/>
          <p:cNvPicPr/>
          <p:nvPr/>
        </p:nvPicPr>
        <p:blipFill>
          <a:blip r:embed="rId3"/>
          <a:stretch/>
        </p:blipFill>
        <p:spPr>
          <a:xfrm>
            <a:off x="380880" y="228600"/>
            <a:ext cx="6934320" cy="99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 Apri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A5EB-F15E-41A5-AFDB-4FF8B4F7F2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009c"/>
                </a:solidFill>
                <a:latin typeface="Trebuchet MS"/>
              </a:rPr>
              <a:t>University Presses &amp; E-Book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Trebuchet MS"/>
              </a:rPr>
              <a:t>March 2005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Programs of Individual Presse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Oxford University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olumbia University EPIC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National Academy Pres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University of California Pres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Oxford University Press</a:t>
            </a:r>
            <a:br>
              <a:rPr sz="3200"/>
            </a:b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Oxford Scholarship Online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870 titles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Economics &amp; Finance, Philosophy, Political Science, Religion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Oxford Reference Online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Individual reference title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rebuchet MS"/>
              </a:rPr>
              <a:t>Oxford English Dictionary</a:t>
            </a: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 </a:t>
            </a:r>
            <a:r>
              <a:rPr b="1" i="1" lang="en-US" sz="2400" spc="-1" strike="noStrike">
                <a:solidFill>
                  <a:srgbClr val="336600"/>
                </a:solidFill>
                <a:latin typeface="Trebuchet MS"/>
              </a:rPr>
              <a:t>Online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rebuchet MS"/>
              </a:rPr>
              <a:t>Dictionary of National Biography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rebuchet MS"/>
              </a:rPr>
              <a:t>American National Biography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rebuchet MS"/>
              </a:rPr>
              <a:t>Grove Art Online</a:t>
            </a: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	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00"/>
                </a:solidFill>
                <a:latin typeface="Trebuchet MS"/>
              </a:rPr>
              <a:t>Oxford Digital Reference Shelf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Columbia University EPIC</a:t>
            </a:r>
            <a:br>
              <a:rPr sz="3200"/>
            </a:b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Gutenberg &lt;e&gt; with AHA: </a:t>
            </a:r>
            <a:r>
              <a:rPr b="1" i="1" lang="en-US" sz="2800" spc="-1" strike="noStrike">
                <a:solidFill>
                  <a:srgbClr val="336600"/>
                </a:solidFill>
                <a:latin typeface="Trebuchet MS"/>
              </a:rPr>
              <a:t>Prize from the AHA &amp; Columbia University Press for dissertations and monograph manuscripts in history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1999 – 2003 30 prizes awarded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ublished first electronic, then print – 11 to date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51 library subscriber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Annual subscriptions for collection: $195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National Academy Press</a:t>
            </a:r>
            <a:br>
              <a:rPr sz="3200"/>
            </a:b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At the Press’s Web sit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Free page viewing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urchased PDF chapters or book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ackage of hardback and PDF at 25% above hardback alone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Distributes to institutions through intermediari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University of California Press</a:t>
            </a:r>
            <a:br>
              <a:rPr sz="3200"/>
            </a:b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artnership of UCP &amp; California Digital Library’s eScholarship program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1,400 ebooks online in XML format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Available freely to UC community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Less than 400 available to others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E-book versions available through retailer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articipates in many online book program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Programs of Scholarly Organization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ACLS History E-Book Project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ACLS History E-Book Project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&gt;1,000 historian-selected titles in 7 area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Most scanned backlist; few new XML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Adding 6 fields &amp; 250 titles/year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39% of 61 university presses responding to a survey in fall 2004 provide books 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9 presses provide new titles (14 available now)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313 libraries subscribing – 20 consortia, including CIC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Carnegie classification pricing model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University Press Group Initiative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Subject-based projects managed by one pres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onsortial initiativ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Subject-Based Project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These projects include primary sources from various libraries and publishers and commissioned interpretive material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University of Virginia Rotunda Collection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University of Virginia Rotunda Collections</a:t>
            </a: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336600"/>
                </a:solidFill>
                <a:latin typeface="Trebuchet MS"/>
              </a:rPr>
              <a:t>original digital scholarship along with newly digitized critical &amp; documentary editions in the humanities &amp; social sciences</a:t>
            </a: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Dolley Madison Digital Edition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apers of George Washington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Emily Dickinson’s Correspondence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Melville 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51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6600"/>
                </a:solidFill>
                <a:latin typeface="Trebuchet MS"/>
              </a:rPr>
              <a:t>Graduated pricing with maintenance fees</a:t>
            </a:r>
            <a:endParaRPr b="1" lang="en-US" sz="30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University Presses &amp; E-Book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Goal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oncern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otential value of online book program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urrent involvement in online books program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Consortial Initiative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Formats evolving: one press may lead and manage but others participate and have oversight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Project TORCH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BiblioVault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Project TORCH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OUP initiativ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Mellon Foundation provided 2 planning grants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Goal to delineate backlist collections of university press titles in humanities to sell to libraries with pricing based on library siz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roject is on hold (as of January 2005)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BiblioVault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University of Chicago Press home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Repository for digital book file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Scanned/OCRed for older books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Vector PDF for newer books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XML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To enable lifecycle management of book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Scholars’ Portal for book discovery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Studying how to serve presses &amp; scholarly community with online book delivery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Commercial Online Book Ventures: Participation Level</a:t>
            </a: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133720" y="2362320"/>
          <a:ext cx="4724280" cy="4241520"/>
        </p:xfrm>
        <a:graphic>
          <a:graphicData uri="http://schemas.openxmlformats.org/drawingml/2006/table">
            <a:tbl>
              <a:tblPr/>
              <a:tblGrid>
                <a:gridCol w="2819160"/>
                <a:gridCol w="19051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netLibr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7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3680">
                      <a:solidFill>
                        <a:srgbClr val="990033"/>
                      </a:solidFill>
                    </a:lnR>
                    <a:lnT w="1368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Quest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6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368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ebrar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368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24x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368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Content Direc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368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5760">
                      <a:solidFill>
                        <a:srgbClr val="990033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Ebooks Corp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990033"/>
                      </a:solidFill>
                    </a:lnL>
                    <a:lnR w="576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336600"/>
                          </a:solidFill>
                          <a:latin typeface="Trebuchet MS"/>
                        </a:rPr>
                        <a:t>2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90033"/>
                      </a:solidFill>
                    </a:lnL>
                    <a:lnR w="13680">
                      <a:solidFill>
                        <a:srgbClr val="990033"/>
                      </a:solidFill>
                    </a:lnR>
                    <a:lnT w="5760">
                      <a:solidFill>
                        <a:srgbClr val="990033"/>
                      </a:solidFill>
                    </a:lnT>
                    <a:lnB w="13680">
                      <a:solidFill>
                        <a:srgbClr val="990033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Commercial Online Book Ventures: </a:t>
            </a:r>
            <a:br>
              <a:rPr sz="3200"/>
            </a:b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Issues for University Presses</a:t>
            </a: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Lack of interest in backlist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reservation of print copy sales to librari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Modest income derived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Lost sales to scholars?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Lost income from permissions for partial use of books?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Questions for Future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What relationships between print and online books do libraries seek?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What interest do libraries have in providing online access to backlist titles?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Would libraries use online access to substitute for some print access?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University Press Goals 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ublish as many worthy scholarly books as possible without going brok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Few (if any) university presses break even consistently on their monographic book publishing programs 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Other income comes from journals programs, other publishing activities, endowments, &amp; institutional subsidies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Avg subsidy=10% of net sales ($.36 mn)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University Press Goal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Maximize dissemination of books consistent with economic goal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Formats – hardcover, paperback, ebooks, partial 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Timing of release of each format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Pricing – overall level &amp; difference by format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rebuchet MS"/>
              </a:rPr>
              <a:t>Keep books available to community for as long as they are in demand</a:t>
            </a:r>
            <a:endParaRPr b="1" lang="en-US" sz="28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Formats 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4e009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rebuchet MS"/>
              </a:rPr>
              <a:t>Technology – offset &amp; digital printing, e-versions</a:t>
            </a: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University Press Concern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Libraries are key consumers of scholarly monograph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Journals take increased share of library budgets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ARL unit purchases of monographs down  1986-2001 (2002=1986)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Sales of new hardcover scholarly monographs off by 50% or mor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University Press Concerns </a:t>
            </a:r>
            <a:br>
              <a:rPr sz="3200"/>
            </a:br>
            <a:r>
              <a:rPr b="1" lang="en-US" sz="3200" spc="-1" strike="noStrike">
                <a:solidFill>
                  <a:srgbClr val="4e009c"/>
                </a:solidFill>
                <a:latin typeface="Trebuchet MS"/>
              </a:rPr>
              <a:t>re Online Books</a:t>
            </a:r>
            <a:endParaRPr b="1" lang="en-US" sz="32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2514240"/>
            <a:ext cx="84582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Offering online books could: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Diminish sale of print copies to librari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ut students’ purchases of books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Reduce income from permissions for classroom use &amp; coursepack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Economic Potential for Online Book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Expand library base purchasing access to books via pricing that reflects size of user base or actual usag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Facilitate ‘just in time’ acquisition of print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Replace some ILL activity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Replace offsite storage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Facilitate e-coursepack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Scholarly Potential for Online Book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80520" y="2209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Readers around the world could learn about &amp; access university press titles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Books could be fully integrated into online search &amp; retrieval process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Dissertations could be integrated into scholarly collections &amp; need for dissertation-based first books could diminish 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520" y="12949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e009c"/>
                </a:solidFill>
                <a:latin typeface="Trebuchet MS"/>
              </a:rPr>
              <a:t>University Press Online Book Programs</a:t>
            </a:r>
            <a:endParaRPr b="1" lang="en-US" sz="3600" spc="-1" strike="noStrike">
              <a:solidFill>
                <a:srgbClr val="4e009c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2362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rograms of individual press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rograms of other scholarly organization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Programs of groups of university presse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4e009c"/>
              </a:buClr>
              <a:buSzPct val="9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rebuchet MS"/>
              </a:rPr>
              <a:t>Commercial programs</a:t>
            </a:r>
            <a:endParaRPr b="1" lang="en-US" sz="3200" spc="-1" strike="noStrike">
              <a:solidFill>
                <a:srgbClr val="3366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iana</dc:creator>
  <dc:description/>
  <dc:language>en-US</dc:language>
  <cp:lastModifiedBy>Kiana Gordon</cp:lastModifiedBy>
  <dcterms:modified xsi:type="dcterms:W3CDTF">2010-05-19T18:29:53Z</dcterms:modified>
  <cp:revision>38</cp:revision>
  <dc:subject/>
  <dc:title>PowerPoint Presentation</dc:title>
</cp:coreProperties>
</file>